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EE2-754D-438C-BF86-2B915375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C77-A782-4318-A889-9848E249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FEA-0BFB-4462-951B-7E82B0AA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1B7-318F-482C-9A65-B4759D75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BA28-9903-4F4D-8DCB-F5059BA2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C89E-7769-4740-9716-C5E64D8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605B-9D3B-45A0-858F-F913C4B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67F-3EBA-4297-96BF-6F09D36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A926-5593-48C8-AF14-4E487A2A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8B5D-9A59-4B4C-9259-4F4C211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907-9EB3-460A-AA32-DF1F4FB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8FC-2C79-45B4-8AD4-2F71BF4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1E3F-FB7D-43FF-B030-C851180C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B512-1B5A-4D74-83AA-9BE223B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68FF-83C6-472C-B487-B26B25E8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37F4-B2D9-4C03-BBA9-612B9A64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4CC6-3ED1-4936-BF3A-887B969F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962C-7934-4754-BE8A-1D0C24D4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1628-87DA-4D19-81E9-AB80FCF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D6D4-0774-4F46-A497-0C1F4CB1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A2C6-A99F-4474-9B81-DE7CB265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1A1B-9852-4320-A6EC-0C4AFBB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459-D291-4437-90F8-0F43776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94E3-79DF-4F2D-A6E8-A29BCC5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DCF8-2FEA-48B1-9204-73F12C3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A808-EF9D-4275-9CD5-0B5078E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E681-724D-44C1-920F-06A56FF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9751-F770-43A4-948D-8F06ED9E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8AF5-C14B-47A1-87B8-B1571A98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A93E-DAAA-47F5-91E4-56E77E82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25E4-25AC-4B94-921A-8148E714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E958-DF0C-445B-9BA4-AC092A4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27E6-DE18-42CB-97D1-442D55DE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86-4BF3-446F-BFB0-7C021BA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4F25-FF96-490A-8FDF-DBA8B667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8F31-C7E1-47BD-8AB3-18BD0AA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02D3-A005-4092-A507-39CB2844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2319-A7AE-4A01-9336-925114D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CC4D-0B92-4F43-AED0-A0AF188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C63B-B228-4B55-BA18-E39C3D3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BB6D-FC7E-472E-95B3-49947DC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CC2C-21F9-4DA3-B524-B39AADD9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57EB-3F02-4A11-8A1C-9736669E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7A2B-0840-4D7B-ACF9-EB17BA51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57B-DD53-441F-A41C-DF42709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6A5E-E508-41B6-83AF-FDF58A93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5854-51EC-4D53-AC4A-02D8405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D4C1-DA9C-4AF3-A147-0122914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F6C0-D5C1-43B0-B742-E3806E8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CFC4-F3C6-4C50-ACD4-24C1FD5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D50C-6CCB-47F5-831E-03AF64C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C7F8-82D6-474B-8EE1-73A0399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1347-3678-4533-9343-A39A20C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3A53-38AE-4D4A-B402-497C9923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9231-DCC0-4438-B92D-3324A9C8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483-8EAA-4F55-A96B-D81BC8A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8C47-E066-4295-9D20-DD00A8DA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9B13-FCB8-4819-B923-A7E5B308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A9B7-1946-45DD-AF66-301B45F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C744-3935-4EA6-96D0-6A3B6321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91F4F-6ECC-4519-BC1E-08C9845C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452A5-F70C-4AF2-912E-3BE24D2E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D76C-CF06-4DBB-BB45-8E933251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4C38-BDC0-4872-8791-62A8A3D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430F5-2CDB-4172-AD8B-DCCFC94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9CE7-7F50-424B-A101-2D5CC09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C55-E688-4E6A-A26E-467ECFD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66EF-BA3D-4A08-B938-D0CE572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4F824-4835-4E7B-B20E-A949CD23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A5A0-7F1B-4DA3-8D36-A8095450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7882-D1A5-4344-9621-7280B135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C9C0-CA12-41DD-BAD8-2A696AC6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B3BB-5643-44F8-BD76-13256F54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5DD4-9E4C-427B-810C-77C2BC8F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AB5F-D75D-426D-8977-3CAC7A1E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9240-3FF5-4A71-9BDD-D4FED681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B341-029D-49C0-AE41-75E1873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76A-1270-415D-A97C-051CB52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C93B-5153-42B0-B7D3-C873F62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0CBC-BC24-44CC-9346-76112A3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3A59-F5EA-4692-9802-7CBE69F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0DCC-A16D-4D34-A0C4-A66E5616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9693-7E1A-477B-886A-44108C4B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989A-61FB-45F8-8E13-176EC077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E9919-FD59-4CFF-9487-E01E47E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8CD2F-3CA4-4FBA-A893-CE27E06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B9974-B7CD-4A25-95E8-5856F20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B704-F5A5-44E8-8787-BE855743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76C-113F-423E-8C8A-5F6DCF5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D1AE-83FA-43D3-83F0-D2F2CBE1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1A97-BE35-4253-8C64-86C74A5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244D1-5083-46A7-A27B-769644A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6889-5DA7-40D2-99F0-1826DFD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1D73-C0B5-4259-B3DA-C1B9D42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E580-D1DB-460E-BFAB-BC28CFB8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98AA-C681-472A-B6B2-9AB7B80F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AA34-25E9-4623-AE60-44B50BFD3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90000"/>
              </a:gs>
              <a:gs pos="50000">
                <a:srgbClr val="cd4e4b"/>
              </a:gs>
              <a:gs pos="100000">
                <a:srgbClr val="8900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2a09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439-8E1A-425C-B314-1330A17AB1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5EC-9350-4D2D-A423-AFA88C8D65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64D-94EB-4F20-9B9A-0C81258888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DC2-BC80-416F-B217-ECD77581B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AD11-1D7C-4A19-9F12-CE515D0837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C82-4FD4-4F22-8E0C-0947FA4FEB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94E2-1BDD-4C06-968B-6D2C1DAFC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2163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2nd Year</a:t>
            </a: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	</a:t>
            </a: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6.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4920"/>
            <a:ext cx="83818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is farm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 muy vie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ta gran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pig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án en el corr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tos cerd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at rooster (far away)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 está encima de la cerc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Aquel gal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ose farmer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trabajan much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os ganader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ose hen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án debajo del árbol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as gallin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ese horse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son más bonitos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os caballos , és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is pig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es más gordo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at one (far awa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e cerdo, aqué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Me gustan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ese cows,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pero no me gustan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as vacas, ésa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is clas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es más fácil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a clase, és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 student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son más altos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 (far away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os estudiantes, aquéllo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9" descr="http://t0.gstatic.com/images?q=tbn:ANd9GcRV5leoA0Q87Cb9R5tNVd-UQj7Z4zQoc35ZSbsTmeAi7bOkyPDhNA"/>
          <p:cNvPicPr/>
          <p:nvPr/>
        </p:nvPicPr>
        <p:blipFill>
          <a:blip r:embed="rId1"/>
          <a:stretch/>
        </p:blipFill>
        <p:spPr>
          <a:xfrm>
            <a:off x="304920" y="327672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5" descr="http://t0.gstatic.com/images?q=tbn:ANd9GcRV5leoA0Q87Cb9R5tNVd-UQj7Z4zQoc35ZSbsTmeAi7bOkyPDhNA"/>
          <p:cNvPicPr/>
          <p:nvPr/>
        </p:nvPicPr>
        <p:blipFill>
          <a:blip r:embed="rId2"/>
          <a:stretch/>
        </p:blipFill>
        <p:spPr>
          <a:xfrm>
            <a:off x="2514600" y="1143000"/>
            <a:ext cx="3076560" cy="2463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http://t0.gstatic.com/images?q=tbn:ANd9GcRV5leoA0Q87Cb9R5tNVd-UQj7Z4zQoc35ZSbsTmeAi7bOkyPDhNA"/>
          <p:cNvPicPr/>
          <p:nvPr/>
        </p:nvPicPr>
        <p:blipFill>
          <a:blip r:embed="rId3"/>
          <a:stretch/>
        </p:blipFill>
        <p:spPr>
          <a:xfrm>
            <a:off x="5410080" y="0"/>
            <a:ext cx="2094120" cy="1676520"/>
          </a:xfrm>
          <a:prstGeom prst="rect">
            <a:avLst/>
          </a:prstGeom>
          <a:ln w="0">
            <a:noFill/>
          </a:ln>
        </p:spPr>
      </p:pic>
      <p:pic>
        <p:nvPicPr>
          <p:cNvPr id="403" name="Title 1" descr=""/>
          <p:cNvPicPr/>
          <p:nvPr/>
        </p:nvPicPr>
        <p:blipFill>
          <a:blip r:embed="rId4"/>
          <a:stretch/>
        </p:blipFill>
        <p:spPr>
          <a:xfrm>
            <a:off x="-1066680" y="-536400"/>
            <a:ext cx="7772400" cy="2597040"/>
          </a:xfrm>
          <a:prstGeom prst="rect">
            <a:avLst/>
          </a:prstGeom>
          <a:ln w="0">
            <a:noFill/>
          </a:ln>
        </p:spPr>
      </p:pic>
      <p:sp>
        <p:nvSpPr>
          <p:cNvPr id="404" name="Title 1"/>
          <p:cNvSpPr/>
          <p:nvPr/>
        </p:nvSpPr>
        <p:spPr>
          <a:xfrm>
            <a:off x="5562720" y="274320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Title 1"/>
          <p:cNvSpPr/>
          <p:nvPr/>
        </p:nvSpPr>
        <p:spPr>
          <a:xfrm>
            <a:off x="7391520" y="8380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91120" y="5748480"/>
            <a:ext cx="30477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is Hor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te cabal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Content Placeholder 1"/>
          <p:cNvSpPr/>
          <p:nvPr/>
        </p:nvSpPr>
        <p:spPr>
          <a:xfrm>
            <a:off x="5181480" y="2971800"/>
            <a:ext cx="30481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at Hor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e cabal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Content Placeholder 1"/>
          <p:cNvSpPr/>
          <p:nvPr/>
        </p:nvSpPr>
        <p:spPr>
          <a:xfrm>
            <a:off x="7086600" y="1176480"/>
            <a:ext cx="2286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That Hors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(over ther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95339"/>
                </a:solidFill>
                <a:latin typeface="Lucida Sans Unicode"/>
              </a:rPr>
              <a:t>Aquel caball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5"/>
          <a:stretch/>
        </p:blipFill>
        <p:spPr>
          <a:xfrm>
            <a:off x="0" y="1755720"/>
            <a:ext cx="274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-1066680" y="-536400"/>
            <a:ext cx="7772400" cy="2597040"/>
          </a:xfrm>
          <a:prstGeom prst="rect">
            <a:avLst/>
          </a:prstGeom>
          <a:ln w="0">
            <a:noFill/>
          </a:ln>
        </p:spPr>
      </p:pic>
      <p:sp>
        <p:nvSpPr>
          <p:cNvPr id="411" name="Title 1"/>
          <p:cNvSpPr/>
          <p:nvPr/>
        </p:nvSpPr>
        <p:spPr>
          <a:xfrm>
            <a:off x="5562720" y="274320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itle 1"/>
          <p:cNvSpPr/>
          <p:nvPr/>
        </p:nvSpPr>
        <p:spPr>
          <a:xfrm>
            <a:off x="7391520" y="8380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91120" y="5748480"/>
            <a:ext cx="30477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is h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ta gall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Content Placeholder 1"/>
          <p:cNvSpPr/>
          <p:nvPr/>
        </p:nvSpPr>
        <p:spPr>
          <a:xfrm>
            <a:off x="5715000" y="3462480"/>
            <a:ext cx="30481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at H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a gall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Content Placeholder 1"/>
          <p:cNvSpPr/>
          <p:nvPr/>
        </p:nvSpPr>
        <p:spPr>
          <a:xfrm>
            <a:off x="7086600" y="1176480"/>
            <a:ext cx="2286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That h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(over ther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95339"/>
                </a:solidFill>
                <a:latin typeface="Lucida Sans Unicode"/>
              </a:rPr>
              <a:t>Aquella galli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Picture 2" descr="C:\Users\Heather\AppData\Local\Microsoft\Windows\Temporary Internet Files\Content.IE5\8ZF8A40X\MP900441050[1].jpg"/>
          <p:cNvPicPr/>
          <p:nvPr/>
        </p:nvPicPr>
        <p:blipFill>
          <a:blip r:embed="rId2"/>
          <a:stretch/>
        </p:blipFill>
        <p:spPr>
          <a:xfrm>
            <a:off x="304920" y="1600200"/>
            <a:ext cx="4005000" cy="4946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Heather\AppData\Local\Microsoft\Windows\Temporary Internet Files\Content.IE5\8ZF8A40X\MP900441050[1].jpg"/>
          <p:cNvPicPr/>
          <p:nvPr/>
        </p:nvPicPr>
        <p:blipFill>
          <a:blip r:embed="rId3"/>
          <a:stretch/>
        </p:blipFill>
        <p:spPr>
          <a:xfrm>
            <a:off x="3809880" y="1371600"/>
            <a:ext cx="2406600" cy="2971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Heather\AppData\Local\Microsoft\Windows\Temporary Internet Files\Content.IE5\8ZF8A40X\MP900441050[1].jpg"/>
          <p:cNvPicPr/>
          <p:nvPr/>
        </p:nvPicPr>
        <p:blipFill>
          <a:blip r:embed="rId4"/>
          <a:stretch/>
        </p:blipFill>
        <p:spPr>
          <a:xfrm>
            <a:off x="6095880" y="0"/>
            <a:ext cx="1371600" cy="169380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5"/>
          <a:stretch/>
        </p:blipFill>
        <p:spPr>
          <a:xfrm>
            <a:off x="-384120" y="1676520"/>
            <a:ext cx="27493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148104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is fence is bigger (more big) than that on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a cerca es más grande que és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artisans (m.) are shorter than those (far away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os artesanos son más bajos que aquéllo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scissors are smaller (more small)  than thos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as tijeras son más pequeñas que ésa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at llama is older than that one (far away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a llama es mayor que aquéll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C:\Users\Heather\AppData\Local\Microsoft\Windows\Temporary Internet Files\Content.IE5\WIHT2B2Q\MP900444280[2].jpg"/>
          <p:cNvPicPr/>
          <p:nvPr/>
        </p:nvPicPr>
        <p:blipFill>
          <a:blip r:embed="rId2"/>
          <a:stretch/>
        </p:blipFill>
        <p:spPr>
          <a:xfrm>
            <a:off x="5964120" y="4724280"/>
            <a:ext cx="3103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1:01:21Z</dcterms:created>
  <dc:creator>Heather Heffernen</dc:creator>
  <dc:description/>
  <dc:language>en-US</dc:language>
  <cp:lastModifiedBy>Prine, Stephanie</cp:lastModifiedBy>
  <dcterms:modified xsi:type="dcterms:W3CDTF">2013-01-23T18:35:48Z</dcterms:modified>
  <cp:revision>10</cp:revision>
  <dc:subject/>
  <dc:title>La Práctica: Demonstrative Adjectives &amp; Pronouns</dc:title>
</cp:coreProperties>
</file>